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0AD-77AE-4C20-A37E-7035534E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6FD8-C6C5-481B-84A9-2AA52AE9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45C-D601-45FF-B64B-031A3CFD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ADC-DE16-4403-A74D-A2094E6E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2F82-B4DA-4FE3-9EA4-3234CA1C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F79-FEB5-413E-B2D9-600DC3D7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485C-1EBD-4006-92E7-31FCD2B5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084-87D6-4A73-B68B-27F70E15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1E5-962E-4646-8FC8-102E7AF8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885-E9F1-4808-BB1A-1EFCB4F8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404F-C233-4576-9CE2-DDCC666F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7638-C157-418C-B3B5-996BCB9E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DE31-3A8C-4CA8-BD4B-EA4D572AB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11280" y="1413000"/>
            <a:ext cx="34290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siunea iunie-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2a3</cp:lastModifiedBy>
  <dcterms:modified xsi:type="dcterms:W3CDTF">2012-06-18T10:54:08Z</dcterms:modified>
  <cp:revision>31</cp:revision>
  <dc:subject/>
  <dc:title>SALARIUL</dc:title>
</cp:coreProperties>
</file>